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pct" ContentType="image/x-pict"/>
  <Override PartName="/ppt/media/image6.pct" ContentType="image/x-pict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32AB4-C693-456D-A68F-B89398107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9BC0-E711-4A19-B4B0-AAA154A5C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C62D-6D00-4819-B649-F1CAD39D4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AD80-BB18-403B-AA7E-FAE69C7C4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14EE-5A23-402F-8F67-02B9C49A81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8E49-27BD-4CAF-AE4C-BFA590694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9592-862E-4E99-AADF-DC3BB6122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7158-EF4F-42BA-8DE5-1281BEE27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F1D6-A9A7-405B-A095-48CF3B183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A438-3260-463F-8C78-A603012D7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18BA-845A-4087-9FE0-772D7CC1E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C7B2-0A19-46C9-ADE3-D368B2C14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13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henotype Ontology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ld Spring Har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November 19-20th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ea1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11F6-6D52-4D84-87D6-8185C1E311D7}" type="slidenum">
              <a:rPr b="1" lang="en-US" sz="1400" spc="-1" strike="noStrike">
                <a:solidFill>
                  <a:srgbClr val="ffea1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33200" y="6316560"/>
            <a:ext cx="137808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6040" y="457200"/>
            <a:ext cx="677196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The FlyBase Consorti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rva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Bloomington-Ind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California-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bridg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94360" y="5391000"/>
            <a:ext cx="1170000" cy="641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986120" y="5176800"/>
            <a:ext cx="1071360" cy="1058760"/>
            <a:chOff x="1986120" y="5176800"/>
            <a:chExt cx="1071360" cy="1058760"/>
          </a:xfrm>
        </p:grpSpPr>
        <p:sp>
          <p:nvSpPr>
            <p:cNvPr id="44" name=""/>
            <p:cNvSpPr/>
            <p:nvPr/>
          </p:nvSpPr>
          <p:spPr>
            <a:xfrm>
              <a:off x="1986120" y="5176800"/>
              <a:ext cx="1071360" cy="10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2108160" y="5221080"/>
              <a:ext cx="866880" cy="97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2400" y="23328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3000" y="1135080"/>
            <a:ext cx="755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yBase allele records inclu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ators for production databas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ful to biologi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23600" y="606600"/>
            <a:ext cx="29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6800" y="1725480"/>
            <a:ext cx="723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 candidate data-rich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lect annotation from on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annotate with Phenotype Ontolog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Structur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Vocabular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actic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1720" y="203040"/>
            <a:ext cx="570060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92480" y="301680"/>
            <a:ext cx="68515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1600" y="203040"/>
            <a:ext cx="698328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0880" y="528480"/>
          <a:ext cx="12336480" cy="60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28480"/>
                    <a:ext cx="123364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80" y="31428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How much can we pack into on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60" y="1141560"/>
            <a:ext cx="8861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urrently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g defective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e courtship behavior (sensu Insecta)\, song production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 | abnormal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Point - if values were linguistically distinct then no need to  state  ‘attribute’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statement as attribute would be implicit from the attribute:value relation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8640" y="31428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Anoth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1185840"/>
            <a:ext cx="84643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ele 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in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 manifest in: 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quantitative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gain - better were ‘quantitative’ attribute implicit and uns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6840" y="35388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ricky to expres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1880" y="1235160"/>
            <a:ext cx="7774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ee text thing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me nebenkern are associated with two centri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 of one as in wild-typ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bnormal relationship between two 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s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aterals split near the distal tip as they elon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at later stages they appear to be split over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their leng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observables showing progressive de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6120" y="1327320"/>
            <a:ext cx="821520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AR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few homozygotes exhibit neurons in the longitud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cts that appear to stall at some of the commis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ing nodular growth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behaviour of one observable in relation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forming nodular growth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llicle cells at the posterior of egg chamber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senchymal-li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transformation of one observable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2720" y="228600"/>
            <a:ext cx="82821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Comic Sans MS"/>
              </a:rPr>
              <a:t>Equivalent altern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_neuron ; CL:00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 neuron ; FBbt:00005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; GO:000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_in_vivo ; CL:0000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oduction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real issue - if redundancy exists then utility of PO for providing comprehensive access to all phenotypes of same class is comprom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68520" y="26496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Structural 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360" y="890640"/>
            <a:ext cx="88887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se of compound observable/attribute combin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serv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 is in dorsal epithelium that makes the embryonic h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| 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mbryonic head epidermis | dorsal | qualitative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t combined (be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&amp; embryonic head epidermis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issue - attribute meaningful for one but not other observable - different kind of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39840" y="990720"/>
            <a:ext cx="948384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a18"/>
                </a:solidFill>
                <a:latin typeface="Comic Sans MS"/>
              </a:rPr>
              <a:t>FlyBase inclu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78,804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named allel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19,053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Drosophili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SSICAL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61,2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73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ETICALLY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GINEERED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17,5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cer\UAS.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20160" y="3668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Curation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" y="1744560"/>
            <a:ext cx="816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: Need t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rowser where only relevant val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or specific attribute are 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“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tatement builder” to assemble comp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henotype terms sequentially from vocab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2: Redundancy solver - would certain combina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e disallowed in statement build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19240" y="23328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Answ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4800" y="960480"/>
            <a:ext cx="7346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lyBase allele records includ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potentiall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yes, but probably not eliminat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ators for production database us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seful to biologis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in searches yes though redundancy needs resoluti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for browsing? have found users to be toler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93560" y="533520"/>
            <a:ext cx="822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0640" y="63648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Core vocabular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1778040"/>
            <a:ext cx="7415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enotypic clas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bcv.ob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atomy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ly_anatomy.obo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es are associate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eles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vocabulari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 conjunc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120" y="260280"/>
            <a:ext cx="231012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8280" y="20779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The FlyBase record for sty</a:t>
            </a:r>
            <a:r>
              <a:rPr b="0" lang="en-GB" sz="2800" spc="-1" strike="noStrike" baseline="30000">
                <a:solidFill>
                  <a:srgbClr val="ffea18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5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(FBal0086316)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182160" y="3705840"/>
            <a:ext cx="8769960" cy="1922760"/>
            <a:chOff x="-182160" y="3705840"/>
            <a:chExt cx="8769960" cy="1922760"/>
          </a:xfrm>
        </p:grpSpPr>
        <p:sp>
          <p:nvSpPr>
            <p:cNvPr id="52" name=""/>
            <p:cNvSpPr/>
            <p:nvPr/>
          </p:nvSpPr>
          <p:spPr>
            <a:xfrm>
              <a:off x="-182160" y="3705840"/>
              <a:ext cx="8769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ic class: neuroanatomy defective | reces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chordotonal org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midline glial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0720" y="3918240"/>
              <a:ext cx="7858080" cy="1403280"/>
            </a:xfrm>
            <a:prstGeom prst="rect">
              <a:avLst/>
            </a:prstGeom>
            <a:noFill/>
            <a:ln w="442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5360" y="2014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sci et al., 1999 used double mutant analysis to place sty in the EGF receptor signaling pathway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GO:000717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560" y="43020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Genetic interactions…for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1520" y="3424320"/>
            <a:ext cx="9080640" cy="2506680"/>
            <a:chOff x="101520" y="3424320"/>
            <a:chExt cx="9080640" cy="2506680"/>
          </a:xfrm>
        </p:grpSpPr>
        <p:sp>
          <p:nvSpPr>
            <p:cNvPr id="57" name=""/>
            <p:cNvSpPr/>
            <p:nvPr/>
          </p:nvSpPr>
          <p:spPr>
            <a:xfrm>
              <a:off x="147600" y="3642480"/>
              <a:ext cx="9034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visibl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ey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visibl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ey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520" y="3424320"/>
              <a:ext cx="8977320" cy="2489040"/>
            </a:xfrm>
            <a:prstGeom prst="rect">
              <a:avLst/>
            </a:prstGeom>
            <a:noFill/>
            <a:ln w="316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2000" y="2135880"/>
            <a:ext cx="7390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ngle mutant phenotype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6,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1,4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phenotypic data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397,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760" y="4921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Number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35320" y="1547640"/>
            <a:ext cx="61790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enetic interactio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5,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9,6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multiple mutant phenotype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131,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07520" y="60012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mor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52760" y="1386000"/>
            <a:ext cx="60498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at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mical metab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oral/developmental/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320" y="314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Phenotype Ontology ide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3800" y="6066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000" y="1681200"/>
            <a:ext cx="49158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) Now each MOD should tr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notate 50 objects using PA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swop those aroun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do “50 units” …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pects of assay, etc/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51926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Judy B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May 2003 meeting’s 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9:25:25Z</dcterms:created>
  <dc:creator>Chihiro Yamada</dc:creator>
  <dc:description/>
  <dc:language>en-US</dc:language>
  <cp:lastModifiedBy>Rachel Drysdale</cp:lastModifiedBy>
  <dcterms:modified xsi:type="dcterms:W3CDTF">2005-11-19T09:09:05Z</dcterms:modified>
  <cp:revision>337</cp:revision>
  <dc:subject/>
  <dc:title>PowerPoint Presentation</dc:title>
</cp:coreProperties>
</file>